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46F7-10C8-4C1C-9051-9C5FC512F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26FD-7F37-4F95-A03E-BDC357D21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B069-60FC-425A-9BC5-1CF536D3F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9CEF-F74A-4586-BB14-1C0AC1BBE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0108-4A85-4FA6-B10B-1C357C3FD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22C0-1C08-44D7-B701-6B686279B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9809-78A5-4151-BD62-19E18B64C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410D-8D65-418C-96DD-0D1B83D90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22ED-4434-47E3-925C-1D8CE04E5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EF5A-E4F3-43E5-B279-06939A0C2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37BB-8E03-41D0-8BD4-831CDD561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9409-7534-4A0B-84A2-0D0D2C8FB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2B7-C610-4040-BC83-523C3D52E7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2B9D-7D83-4AB5-A61B-6E1492DBC3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Presenter Na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47FB-6735-4C6B-A7CA-E5EE79C1F6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needs to refine their understanding of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8D0-8FBC-4D09-8786-586BA143AC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2636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712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7A3E-5C72-43B4-81B5-B04196A92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8229600" cy="47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s the teacher may ask or includ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1CE-2FDF-41B4-9457-CEEFF4A554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43186" t="14563" r="3067" b="62995"/>
          <a:stretch/>
        </p:blipFill>
        <p:spPr>
          <a:xfrm>
            <a:off x="682560" y="3581280"/>
            <a:ext cx="8128080" cy="209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4864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: ‘take the test’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Student Book Module 2: Comparing Fractions  Pages 3-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9777-A8BB-4FC7-B482-4B04EC97AE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276720" cy="411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3996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swer Key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Module 2: Comparing Fractions 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page 5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EE2-0CD5-477E-B92C-6103C10507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060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agnosing the Misconception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 Module 2: Comparing Fractions page 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6FB6-FA3A-49F6-8B0D-8B2DA60F43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#2: Examin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0DB-C2D0-48AF-8C83-4B9585184A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E04D-A3DB-4DB3-8F7F-2269D451DD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put the math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74B4-09F8-4471-AF1E-DA515E946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ider the following as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 ‘do the math.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math that you se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anticipated student respon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r students have solved this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E63-034B-4B3C-9416-A5DFAC9667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e your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95A4-7AAE-4A8A-AF58-F2C17A8523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Jigsaw – Expert Grou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r samples of student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three people who have the same sample # as you do – e.g., Sample #1 find three other people with Sampl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n expert group, complete the chart ‘Supporting Student Learn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3CD-4411-469D-9042-29AC542866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401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5C06-016E-4CD2-B373-7D46AA5688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712620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CBD-B679-45B7-AED0-AE9E643F6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understand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5C37-C7BF-43DF-B046-90E62F7411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42636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7937640" cy="99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37342</cp:lastModifiedBy>
  <dcterms:modified xsi:type="dcterms:W3CDTF">2012-05-31T13:26:43Z</dcterms:modified>
  <cp:revision>20</cp:revision>
  <dc:subject/>
  <dc:title>&lt;Title&gt;</dc:title>
</cp:coreProperties>
</file>